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29A1-75A8-4355-A3CE-2EDA0E4E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552-C9D3-4798-9152-04B9908F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670-0541-4745-A1B7-5EB36BC7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747-7510-4891-8928-1DC313CE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E78F-79A4-484C-A369-B2748DFA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7E65-6644-4B17-AB9E-27D1298C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1AA2-1730-4A31-9B7C-07261731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B058-AA57-467F-94DE-9B8B1F6B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41EC-7A25-484C-8D29-BCD95D0D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36AE-CDC2-4DF8-9204-53C98476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57BD-F0E8-4166-ACDC-DFE8641E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31B-15A3-4170-9A92-7AA3E376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BACD-B249-4035-8B78-95102C29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8D0E-7C16-45F8-A8B9-4781E53A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39C4-4A29-490D-A3DF-ADEF03D0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4E9A-98F6-4A7C-81D5-62A6DC36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E2B5-0C9E-48BF-BA52-7EFB46CE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2BE-BBBE-43A1-94CF-FD4E34AC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1F32-948E-4823-8848-F100B073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F11-19DB-4008-9C29-62097F21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C0F-91C2-46C5-B048-B82D14DC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A7C8-4BE9-4BF7-B114-64CAED92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2EC-80F5-4506-8922-6776DDC3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9C9B-9AA6-4A65-A1C9-49B4F3D7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A50E-9DD5-4FC5-8660-8F4C8ACD61E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EB47-A83D-41E6-9536-C22E492961E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8480" y="5335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uesday Topic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680" y="1523880"/>
            <a:ext cx="889632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ntrance task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Write a four line inspirational verse that promotes “nationalism” in this class and this peri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Toda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Nationalism &amp; unification in Ita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Homework du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Ch. 25-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Tonight’s homework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due Thursday) Ch. 25-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uidance scheduling tomorrow :+(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1066680"/>
            <a:ext cx="8077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uropean Nationalism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trong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votio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 one’s country, develops within a group of people who share common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anguag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history, goals, and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radi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alian Nationalism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         Italy was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 divided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untry during earl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800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         Nationalism in Italy directed at ending foreign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omin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oals of Italian Nationalism known as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“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isogemento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” was unification and democrac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06668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aders of Italian Nationalis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zzini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oul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f Italian unif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med 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oung Ital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” an organization to remove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ustrian control and set up Italian Republi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106668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aders of Italian Nationalis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2.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vour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rains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f Italian unif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veloped plan to unify Ita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*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ime Minis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f Sardinia-Piedmont und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ing Victor Emmanuel I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* formed alliances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rance &amp; Prussia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hich allowe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is military to forc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stria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ut of Ital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3735360"/>
            <a:ext cx="270360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06668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aders of Italian Nationalis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aribaldi -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word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f Italian unif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ganize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Red Shirts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who fought for control of Sici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d south Ita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united people of south Italy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ardinia-Piedmo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019920" y="2971800"/>
            <a:ext cx="285732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8975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535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819520" y="3056040"/>
            <a:ext cx="3751200" cy="3801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10666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aly was form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861,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ing Victor Emmanuel II was it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mited Monar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1870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rench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roops guard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ope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in Rome left and Italian troops took over the city, establishing it as the Italian capit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3:50:21Z</dcterms:created>
  <dc:creator>Computer Services</dc:creator>
  <dc:description/>
  <dc:language>en-US</dc:language>
  <cp:lastModifiedBy>Susan Vanderpool</cp:lastModifiedBy>
  <dcterms:modified xsi:type="dcterms:W3CDTF">2007-04-04T02:09:35Z</dcterms:modified>
  <cp:revision>1</cp:revision>
  <dc:subject/>
  <dc:title>Tuesday Topics</dc:title>
</cp:coreProperties>
</file>